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00F-5014-4DAB-84CF-C2F4DC787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E10-7213-4C88-94B3-B081ED17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A74B-2C35-4EE8-AE91-AF769D4A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CB4-3DA8-4B67-98E7-2A9E00190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276C-90D0-4955-88BE-22D2D3332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C7F5-566B-4F04-9F97-D623024A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33E3-9653-4797-838B-AA713D16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E48-A22E-4B80-8B30-2E9A46B1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CCD8-2180-4D7B-97E1-B44EAA4A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93F-2908-492B-8A94-D626CCD8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066-AF17-4BB9-A964-680E1DDD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52F-2BB3-4EEA-B97B-04CCD25C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46FF7-3590-43A3-9486-EF62700DB2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 cell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 helper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Treg sub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efinition of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-positive, alpha-beta cytotoxic 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7:34:07Z</dcterms:created>
  <dc:creator>Alexander Diehl</dc:creator>
  <dc:description/>
  <dc:language>en-US</dc:language>
  <cp:lastModifiedBy>Alexander Diehl</cp:lastModifiedBy>
  <dcterms:modified xsi:type="dcterms:W3CDTF">2008-05-13T01:20:46Z</dcterms:modified>
  <cp:revision>9</cp:revision>
  <dc:subject/>
  <dc:title>The Cell Ontology</dc:title>
</cp:coreProperties>
</file>